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7370-63EB-4B86-A519-7D3B0248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213-42A2-460A-9D08-E7BF2FD4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9BF4-06C5-4CFD-B082-FBBD9982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523A-F53E-4C5C-BC5F-5AD655A8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BB84-382C-449B-83BF-9885EF75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1ABA-D213-40D0-A481-03B76E94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888-7703-4A92-98E7-9020AC32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FCD3-7E80-4363-9CA9-02427B0E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DBA6-CD11-4401-9684-ECF10E57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AD81-FD33-4160-BDD0-089C4F45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AB40-A3C2-4E8B-952B-D0FC6C76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F105-E439-4EFD-B682-64161CD3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B788-B96A-440A-A4D0-D0AE5FFCEFC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0"/>
          <p:cNvSpPr/>
          <p:nvPr/>
        </p:nvSpPr>
        <p:spPr>
          <a:xfrm>
            <a:off x="5651640" y="3645000"/>
            <a:ext cx="865080" cy="1871640"/>
          </a:xfrm>
          <a:prstGeom prst="rect">
            <a:avLst/>
          </a:prstGeom>
          <a:solidFill>
            <a:srgbClr val="ccff99"/>
          </a:solidFill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1"/>
          <p:cNvSpPr/>
          <p:nvPr/>
        </p:nvSpPr>
        <p:spPr>
          <a:xfrm>
            <a:off x="5076720" y="4076640"/>
            <a:ext cx="2016360" cy="1008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38"/>
          <p:cNvGrpSpPr/>
          <p:nvPr/>
        </p:nvGrpSpPr>
        <p:grpSpPr>
          <a:xfrm>
            <a:off x="847800" y="476280"/>
            <a:ext cx="3292560" cy="2306520"/>
            <a:chOff x="847800" y="476280"/>
            <a:chExt cx="3292560" cy="2306520"/>
          </a:xfrm>
        </p:grpSpPr>
        <p:sp>
          <p:nvSpPr>
            <p:cNvPr id="44" name="AutoShape 4"/>
            <p:cNvSpPr/>
            <p:nvPr/>
          </p:nvSpPr>
          <p:spPr>
            <a:xfrm>
              <a:off x="1332000" y="907920"/>
              <a:ext cx="1944720" cy="1441440"/>
            </a:xfrm>
            <a:prstGeom prst="triangle">
              <a:avLst>
                <a:gd name="adj" fmla="val 50000"/>
              </a:avLst>
            </a:prstGeom>
            <a:noFill/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WordArt 5"/>
            <p:cNvSpPr txBox="1"/>
            <p:nvPr/>
          </p:nvSpPr>
          <p:spPr>
            <a:xfrm>
              <a:off x="1908000" y="476280"/>
              <a:ext cx="81936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Padre</a:t>
              </a:r>
              <a:endParaRPr b="0" lang="en-US" sz="20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" name="WordArt 6"/>
            <p:cNvSpPr txBox="1"/>
            <p:nvPr/>
          </p:nvSpPr>
          <p:spPr>
            <a:xfrm>
              <a:off x="847800" y="2421000"/>
              <a:ext cx="7714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Figlio</a:t>
              </a:r>
              <a:endParaRPr b="0" lang="en-US" sz="20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7" name="WordArt 7"/>
            <p:cNvSpPr txBox="1"/>
            <p:nvPr/>
          </p:nvSpPr>
          <p:spPr>
            <a:xfrm>
              <a:off x="2844720" y="2421000"/>
              <a:ext cx="129564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Spirito S.</a:t>
              </a:r>
              <a:endParaRPr b="0" lang="en-US" sz="2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8" name="WordArt 16"/>
          <p:cNvSpPr txBox="1"/>
          <p:nvPr/>
        </p:nvSpPr>
        <p:spPr>
          <a:xfrm>
            <a:off x="826920" y="2852640"/>
            <a:ext cx="77184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uomo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49" name="Freeform 18"/>
          <p:cNvSpPr/>
          <p:nvPr/>
        </p:nvSpPr>
        <p:spPr>
          <a:xfrm>
            <a:off x="1332000" y="3414600"/>
            <a:ext cx="3744720" cy="130968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9"/>
          <p:cNvSpPr/>
          <p:nvPr/>
        </p:nvSpPr>
        <p:spPr>
          <a:xfrm>
            <a:off x="971640" y="3430440"/>
            <a:ext cx="4105080" cy="1511280"/>
          </a:xfrm>
          <a:prstGeom prst="pie">
            <a:avLst/>
          </a:pr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6"/>
          <p:cNvGrpSpPr/>
          <p:nvPr/>
        </p:nvGrpSpPr>
        <p:grpSpPr>
          <a:xfrm>
            <a:off x="5076720" y="4076640"/>
            <a:ext cx="2016360" cy="1008000"/>
            <a:chOff x="5076720" y="4076640"/>
            <a:chExt cx="2016360" cy="1008000"/>
          </a:xfrm>
        </p:grpSpPr>
        <p:sp>
          <p:nvSpPr>
            <p:cNvPr id="52" name="Rectangle 8"/>
            <p:cNvSpPr/>
            <p:nvPr/>
          </p:nvSpPr>
          <p:spPr>
            <a:xfrm>
              <a:off x="5076720" y="4076640"/>
              <a:ext cx="2016360" cy="1008000"/>
            </a:xfrm>
            <a:prstGeom prst="rect">
              <a:avLst/>
            </a:prstGeom>
            <a:noFill/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WordArt 12"/>
            <p:cNvSpPr txBox="1"/>
            <p:nvPr/>
          </p:nvSpPr>
          <p:spPr>
            <a:xfrm>
              <a:off x="5194440" y="4218120"/>
              <a:ext cx="96192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99cc00"/>
                  </a:solidFill>
                  <a:latin typeface="Arial Black"/>
                </a:rPr>
                <a:t>tomba</a:t>
              </a:r>
              <a:endPara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cc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54" name="Group 11"/>
            <p:cNvGrpSpPr/>
            <p:nvPr/>
          </p:nvGrpSpPr>
          <p:grpSpPr>
            <a:xfrm>
              <a:off x="5435640" y="4579920"/>
              <a:ext cx="1440000" cy="144360"/>
              <a:chOff x="5435640" y="4579920"/>
              <a:chExt cx="1440000" cy="144360"/>
            </a:xfrm>
          </p:grpSpPr>
          <p:sp>
            <p:nvSpPr>
              <p:cNvPr id="55" name="Oval 9"/>
              <p:cNvSpPr/>
              <p:nvPr/>
            </p:nvSpPr>
            <p:spPr>
              <a:xfrm>
                <a:off x="6515280" y="4579920"/>
                <a:ext cx="360360" cy="144360"/>
              </a:xfrm>
              <a:prstGeom prst="ellipse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0"/>
              <p:cNvSpPr/>
              <p:nvPr/>
            </p:nvSpPr>
            <p:spPr>
              <a:xfrm>
                <a:off x="5435640" y="4724280"/>
                <a:ext cx="129708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oup 13"/>
          <p:cNvGrpSpPr/>
          <p:nvPr/>
        </p:nvGrpSpPr>
        <p:grpSpPr>
          <a:xfrm>
            <a:off x="5435640" y="4795920"/>
            <a:ext cx="1440000" cy="144360"/>
            <a:chOff x="5435640" y="4795920"/>
            <a:chExt cx="1440000" cy="144360"/>
          </a:xfrm>
        </p:grpSpPr>
        <p:sp>
          <p:nvSpPr>
            <p:cNvPr id="58" name="Oval 14"/>
            <p:cNvSpPr/>
            <p:nvPr/>
          </p:nvSpPr>
          <p:spPr>
            <a:xfrm>
              <a:off x="6515280" y="4795920"/>
              <a:ext cx="360360" cy="144360"/>
            </a:xfrm>
            <a:prstGeom prst="ellipse">
              <a:avLst/>
            </a:prstGeom>
            <a:noFill/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5"/>
            <p:cNvSpPr/>
            <p:nvPr/>
          </p:nvSpPr>
          <p:spPr>
            <a:xfrm>
              <a:off x="5435640" y="4940280"/>
              <a:ext cx="129708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4"/>
          <p:cNvGrpSpPr/>
          <p:nvPr/>
        </p:nvGrpSpPr>
        <p:grpSpPr>
          <a:xfrm>
            <a:off x="4211640" y="3789360"/>
            <a:ext cx="720720" cy="1079280"/>
            <a:chOff x="4211640" y="3789360"/>
            <a:chExt cx="720720" cy="1079280"/>
          </a:xfrm>
        </p:grpSpPr>
        <p:sp>
          <p:nvSpPr>
            <p:cNvPr id="61" name="Rectangle 23"/>
            <p:cNvSpPr/>
            <p:nvPr/>
          </p:nvSpPr>
          <p:spPr>
            <a:xfrm>
              <a:off x="4500360" y="3789360"/>
              <a:ext cx="144720" cy="10792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4"/>
            <p:cNvSpPr/>
            <p:nvPr/>
          </p:nvSpPr>
          <p:spPr>
            <a:xfrm rot="16200000">
              <a:off x="4499640" y="3714840"/>
              <a:ext cx="144360" cy="7207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Freeform 30"/>
          <p:cNvSpPr/>
          <p:nvPr/>
        </p:nvSpPr>
        <p:spPr>
          <a:xfrm>
            <a:off x="1763640" y="2852640"/>
            <a:ext cx="7224840" cy="180036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33"/>
          <p:cNvSpPr/>
          <p:nvPr/>
        </p:nvSpPr>
        <p:spPr>
          <a:xfrm>
            <a:off x="1692360" y="2708280"/>
            <a:ext cx="7812000" cy="216072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7"/>
          <p:cNvSpPr/>
          <p:nvPr/>
        </p:nvSpPr>
        <p:spPr>
          <a:xfrm>
            <a:off x="7164360" y="4292640"/>
            <a:ext cx="187164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n 3,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Dove sei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Ho udito la tua voce nel giardino: ho avuto paura, perché sono nudo, e mi sono nasco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40"/>
          <p:cNvSpPr txBox="1"/>
          <p:nvPr/>
        </p:nvSpPr>
        <p:spPr>
          <a:xfrm>
            <a:off x="4189320" y="5346720"/>
            <a:ext cx="7430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orte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7" name="WordArt 41"/>
          <p:cNvSpPr txBox="1"/>
          <p:nvPr/>
        </p:nvSpPr>
        <p:spPr>
          <a:xfrm>
            <a:off x="7248600" y="5346720"/>
            <a:ext cx="15714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surrezione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8" name="Text Box 42"/>
          <p:cNvSpPr/>
          <p:nvPr/>
        </p:nvSpPr>
        <p:spPr>
          <a:xfrm>
            <a:off x="1042920" y="4149720"/>
            <a:ext cx="13683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Gv 1,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Il Verbo si fece carne e venne ad abitare in mezzo a n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3"/>
          <p:cNvSpPr/>
          <p:nvPr/>
        </p:nvSpPr>
        <p:spPr>
          <a:xfrm>
            <a:off x="1476360" y="3213000"/>
            <a:ext cx="172872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Gv 10,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Io e il Padre siamo una cosa s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4"/>
          <p:cNvSpPr/>
          <p:nvPr/>
        </p:nvSpPr>
        <p:spPr>
          <a:xfrm>
            <a:off x="539640" y="1413000"/>
            <a:ext cx="12970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Gv 1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Il Verbo era presso 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5"/>
          <p:cNvSpPr/>
          <p:nvPr/>
        </p:nvSpPr>
        <p:spPr>
          <a:xfrm>
            <a:off x="6156360" y="2276640"/>
            <a:ext cx="144000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l 1,15-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In Cristo uniti uomo e cosmo tornano al Pa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6"/>
          <p:cNvSpPr/>
          <p:nvPr/>
        </p:nvSpPr>
        <p:spPr>
          <a:xfrm>
            <a:off x="3060720" y="3860640"/>
            <a:ext cx="14400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Gv 1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Venuto dal Padre e al Padre to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7"/>
          <p:cNvSpPr/>
          <p:nvPr/>
        </p:nvSpPr>
        <p:spPr>
          <a:xfrm>
            <a:off x="7524720" y="4538520"/>
            <a:ext cx="15843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Gv 20,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Salgo al Padre mio e Padre vo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8"/>
          <p:cNvSpPr/>
          <p:nvPr/>
        </p:nvSpPr>
        <p:spPr>
          <a:xfrm>
            <a:off x="3419640" y="499572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Gv 19,30 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pir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9"/>
          <p:cNvSpPr/>
          <p:nvPr/>
        </p:nvSpPr>
        <p:spPr>
          <a:xfrm>
            <a:off x="2338560" y="4916520"/>
            <a:ext cx="151272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 Cor 2,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’uomo naturale non comprende le cose dello Spirito di 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0"/>
          <p:cNvSpPr/>
          <p:nvPr/>
        </p:nvSpPr>
        <p:spPr>
          <a:xfrm>
            <a:off x="324000" y="45165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il percorso della vita biolo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1"/>
          <p:cNvSpPr/>
          <p:nvPr/>
        </p:nvSpPr>
        <p:spPr>
          <a:xfrm>
            <a:off x="5148360" y="2421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il percorso della vita nello Spi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2"/>
          <p:cNvSpPr/>
          <p:nvPr/>
        </p:nvSpPr>
        <p:spPr>
          <a:xfrm>
            <a:off x="7596360" y="2530440"/>
            <a:ext cx="151272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Battes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una vita muore e una riso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3"/>
          <p:cNvSpPr/>
          <p:nvPr/>
        </p:nvSpPr>
        <p:spPr>
          <a:xfrm flipH="1">
            <a:off x="6732720" y="3213000"/>
            <a:ext cx="100800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4"/>
          <p:cNvSpPr/>
          <p:nvPr/>
        </p:nvSpPr>
        <p:spPr>
          <a:xfrm>
            <a:off x="7307280" y="566100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da qui parte la vita crist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6"/>
          <p:cNvSpPr/>
          <p:nvPr/>
        </p:nvSpPr>
        <p:spPr>
          <a:xfrm>
            <a:off x="-254160" y="3184560"/>
            <a:ext cx="151308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Keno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segue il cammino dell’uomo perd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7"/>
          <p:cNvSpPr/>
          <p:nvPr/>
        </p:nvSpPr>
        <p:spPr>
          <a:xfrm>
            <a:off x="5076720" y="5157720"/>
            <a:ext cx="208764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Gv 19,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Ora, nel luogo dove era stato crocifisso, vi era un giardino e nel giardino un sepolcro nuo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9"/>
          <p:cNvSpPr/>
          <p:nvPr/>
        </p:nvSpPr>
        <p:spPr>
          <a:xfrm>
            <a:off x="3429000" y="142920"/>
            <a:ext cx="557208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unione col Cristo è possibile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a chi percorre tutta la via per cui il Salvatore è passato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, patendo tutto ciò che ha patito e facendosi come Lui. Il Salvatore si è unito a una carne e a un sangue puri da ogni peccato: essendo Dio per natura dal principio, ha deificato anche quella che è divenuto più tardi l’umana natura; infine, per la carne è anche morto e risorto. Perciò chi cerca l’unione con lui,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dovrà partecipare della sua carne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condividere la sua divinità, e comunicare al suo sepolcro ed alla sua risurrezione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9"/>
          <p:cNvSpPr/>
          <p:nvPr/>
        </p:nvSpPr>
        <p:spPr>
          <a:xfrm>
            <a:off x="214200" y="5572080"/>
            <a:ext cx="87156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Riceviamo il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battesimo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per morire della sua morte e risorgere della sua risurrezione,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l’unzione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del crisma per divenire partecipi dell’unzione regale della sua divinità; infine mangiando il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pane santissimo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e bevendo al divinissimo calice, comunichiamo alla stessa carne e allo stesso sangue che il Salvatore ha assunto.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In questo modo ci uniamo a colui che per noi si è incarnato, si è deificato, è morto ed è risorto.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(N. Cabasilas, </a:t>
            </a:r>
            <a:r>
              <a:rPr b="0" i="1" lang="it-IT" sz="1500" spc="-1" strike="noStrike">
                <a:solidFill>
                  <a:srgbClr val="000000"/>
                </a:solidFill>
                <a:latin typeface="Arial"/>
              </a:rPr>
              <a:t>Vita in Cristo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, Libro II, 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2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2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52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52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52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4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40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76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28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468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7080"/>
                            </p:stCondLst>
                            <p:childTnLst>
                              <p:par>
                                <p:cTn id="11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16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844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276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80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8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224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8:54:53Z</dcterms:created>
  <dc:creator>Busca GMarco</dc:creator>
  <dc:description/>
  <dc:language>en-US</dc:language>
  <cp:lastModifiedBy>Don MArco</cp:lastModifiedBy>
  <dcterms:modified xsi:type="dcterms:W3CDTF">2010-03-27T09:43:06Z</dcterms:modified>
  <cp:revision>7</cp:revision>
  <dc:subject/>
  <dc:title>Diapositiva 1</dc:title>
</cp:coreProperties>
</file>